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E4DD-2D13-4529-A53A-37148247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27C-D297-44AA-8185-58B48329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302C-71CD-4627-AB92-8FC16AAF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7658-62A9-4E11-B5F4-7D170B54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A194-7E50-4644-956C-BA87DA0C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03E-3C61-4828-B287-A733CB8F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22D8-2FA2-46FF-8101-D2A8674B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3335-7500-43C4-8E87-82E74DF7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8357-0A25-49AE-8616-4BFA9A96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1035-4CAA-4563-9C81-6A383EC4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AF43-1B67-4914-9189-845DDF17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85D5-5DAD-4A42-9861-7DC26573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F60D-0C70-4D84-99AE-809BE1E410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redrick Barret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'm good a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ing to gir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ting fo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ying foot b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y favorite website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3isback 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pace 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tub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y Favorite Food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 do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e do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zz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y Favorite Teachers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 Webb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. J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Jo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f I could I would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 10 years 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have a house n a car 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6:01:43Z</dcterms:created>
  <dc:creator>764232</dc:creator>
  <dc:description/>
  <dc:language>en-US</dc:language>
  <cp:lastModifiedBy>764232</cp:lastModifiedBy>
  <dcterms:modified xsi:type="dcterms:W3CDTF">2008-10-28T16:06:00Z</dcterms:modified>
  <cp:revision>4</cp:revision>
  <dc:subject/>
  <dc:title>Fredrick Barrett</dc:title>
</cp:coreProperties>
</file>